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A3D-77BB-4412-80BB-23AD60D6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0DD-3FD0-49E3-8203-8493C468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1C9-5D4B-4774-939A-7663BB22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071-5C28-4F72-B553-BF908AFB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7F2-3B4D-492F-8761-01672BED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3FA-FE21-45CD-BDB7-DF4CE768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63F3-F819-4924-A035-1FB8E6D6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7EF-1951-41B9-9BC6-216670E5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951-FF4D-44A8-8D6C-F9849757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C547-D200-41EC-8EDA-C6384CF1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BF83-C0FD-4351-A2FB-2980803B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BD6-4B33-463B-AD07-E4B75891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aiandra G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aiandra G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aiandra G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A596-8D9C-46E7-8E32-323CF2119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Background%20Information.doc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Say What???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Hannah Hendrick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#1:Brunettes 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#2: Blonde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#3: Redhead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My hypothesis was somewhat correct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Blondes were in fact smarter than redhead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Brunettes were smartest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Conclusion x2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Interestingly gender had a larger effect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On the first test girl were 40% smarter than the boys.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On the second test girls were 41% smarter.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Possible Cause of Error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People may have seen the IQ questions before. 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People might have overheard the survival test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Further Research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I want to test how gender effects everything I tested with this experiment. 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Acknowledgements 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iandra GD"/>
              </a:rPr>
              <a:t>Time Spent: 19 Hours</a:t>
            </a:r>
            <a:endParaRPr b="0" lang="en-US" sz="28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iandra GD"/>
              </a:rPr>
              <a:t>Thanks to….</a:t>
            </a:r>
            <a:endParaRPr b="0" lang="en-US" sz="28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Brayden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Caleb 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Nick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Shelbi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Kylee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Kylah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Erin 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Holly 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Sydney 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Problem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What effect does hair color have on intelligence 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Hypothesis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Hair color won’t have an effect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Redheads will have lowest IQ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Background Information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aiandra GD"/>
                <a:hlinkClick r:id="rId1"/>
              </a:rPr>
              <a:t>Background Information: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avie"/>
              </a:rPr>
              <a:t>Materials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Test #1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Test #2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Test Subject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Pencil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Procedure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Make test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Give test #1 to all test subject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Grade Test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Record Result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Find Percents &amp; Average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Give test #2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Grade Test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Record Result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Variables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iandra GD"/>
              </a:rPr>
              <a:t>Independent: Hair Color</a:t>
            </a:r>
            <a:endParaRPr b="0" lang="en-US" sz="28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Dependent: Test score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Controlled : Same test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One person from each math 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clas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One boy 2 girl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Results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Results x2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Maiandra GD"/>
              </a:rPr>
              <a:t>Test #1 Results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londes: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Girl Average: 70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oy average: 0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runette: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Girl Average: 70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oy Average: 80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Red: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Girl Average: 40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oy Average: 60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Maiandra GD"/>
              </a:rPr>
              <a:t>Test #2 Results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londes: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Girl Average: 33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oy Average: 33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runette: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Girl Average: 41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oy Average: 0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Red: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Girl Average: 16.5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oy Average: 16% 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6:29:10Z</dcterms:created>
  <dc:creator>USD376</dc:creator>
  <dc:description/>
  <dc:language>en-US</dc:language>
  <cp:lastModifiedBy>USD376</cp:lastModifiedBy>
  <dcterms:modified xsi:type="dcterms:W3CDTF">2012-03-08T17:22:33Z</dcterms:modified>
  <cp:revision>2</cp:revision>
  <dc:subject/>
  <dc:title>Say What???</dc:title>
</cp:coreProperties>
</file>